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3003213" cy="9752013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600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36154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485640" indent="-48564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1" marL="971280" indent="-48528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2" marL="1457280" indent="-48564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3" marL="1942920" indent="-48528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4" marL="2428920" indent="-485640"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5" marL="2428920" indent="-485640"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6" marL="2428920" indent="-485640"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20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5308200"/>
            <a:ext cx="11430000" cy="18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c4c4c"/>
                </a:solidFill>
                <a:latin typeface="Hoefler Text"/>
              </a:rPr>
              <a:t>Click to edit the outline text format</a:t>
            </a:r>
            <a:endParaRPr b="0" lang="en-US" sz="5600" spc="-1" strike="noStrike">
              <a:solidFill>
                <a:srgbClr val="4c4c4c"/>
              </a:solidFill>
              <a:latin typeface="Hoefler Text"/>
            </a:endParaRPr>
          </a:p>
          <a:p>
            <a:pPr lvl="1" marL="106200" algn="ctr"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c4c4c"/>
                </a:solidFill>
                <a:latin typeface="Hoefler Text"/>
              </a:rPr>
              <a:t>Second Outline Level</a:t>
            </a:r>
            <a:endParaRPr b="0" lang="en-US" sz="5600" spc="-1" strike="noStrike">
              <a:solidFill>
                <a:srgbClr val="4c4c4c"/>
              </a:solidFill>
              <a:latin typeface="Hoefler Text"/>
            </a:endParaRPr>
          </a:p>
          <a:p>
            <a:pPr lvl="2" marL="212400" algn="ctr"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c4c4c"/>
                </a:solidFill>
                <a:latin typeface="Hoefler Text"/>
              </a:rPr>
              <a:t>Third Outline Level</a:t>
            </a:r>
            <a:endParaRPr b="0" lang="en-US" sz="5600" spc="-1" strike="noStrike">
              <a:solidFill>
                <a:srgbClr val="4c4c4c"/>
              </a:solidFill>
              <a:latin typeface="Hoefler Text"/>
            </a:endParaRPr>
          </a:p>
          <a:p>
            <a:pPr lvl="3" marL="318600" algn="ctr"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c4c4c"/>
                </a:solidFill>
                <a:latin typeface="Hoefler Text"/>
              </a:rPr>
              <a:t>Fourth Outline Level</a:t>
            </a:r>
            <a:endParaRPr b="0" lang="en-US" sz="5600" spc="-1" strike="noStrike">
              <a:solidFill>
                <a:srgbClr val="4c4c4c"/>
              </a:solidFill>
              <a:latin typeface="Hoefler Text"/>
            </a:endParaRPr>
          </a:p>
          <a:p>
            <a:pPr lvl="4" marL="425160" algn="ctr"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c4c4c"/>
                </a:solidFill>
                <a:latin typeface="Hoefler Text"/>
              </a:rPr>
              <a:t>Fifth Outline Level</a:t>
            </a:r>
            <a:endParaRPr b="0" lang="en-US" sz="5600" spc="-1" strike="noStrike">
              <a:solidFill>
                <a:srgbClr val="4c4c4c"/>
              </a:solidFill>
              <a:latin typeface="Hoefler Text"/>
            </a:endParaRPr>
          </a:p>
          <a:p>
            <a:pPr lvl="5" marL="425160" algn="ctr">
              <a:buClr>
                <a:srgbClr val="000000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c4c4c"/>
                </a:solidFill>
                <a:latin typeface="Hoefler Text"/>
              </a:rPr>
              <a:t>Sixth Outline Level</a:t>
            </a:r>
            <a:endParaRPr b="0" lang="en-US" sz="5600" spc="-1" strike="noStrike">
              <a:solidFill>
                <a:srgbClr val="4c4c4c"/>
              </a:solidFill>
              <a:latin typeface="Hoefler Text"/>
            </a:endParaRPr>
          </a:p>
          <a:p>
            <a:pPr lvl="6" marL="425160" algn="ctr">
              <a:buClr>
                <a:srgbClr val="000000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600" spc="-1" strike="noStrike">
                <a:solidFill>
                  <a:srgbClr val="4c4c4c"/>
                </a:solidFill>
                <a:latin typeface="Hoefler Text"/>
              </a:rPr>
              <a:t>Seventh Outline Level</a:t>
            </a:r>
            <a:endParaRPr b="0" lang="en-US" sz="5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7188120"/>
            <a:ext cx="11430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205b5a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8445600"/>
            <a:ext cx="11430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0000"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lvl="1" marL="68400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lvl="2" marL="137160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lvl="3" marL="205560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lvl="4" marL="274320" algn="ctr">
              <a:buClr>
                <a:srgbClr val="595650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lvl="5" marL="274320" algn="ctr">
              <a:buClr>
                <a:srgbClr val="000000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lvl="6" marL="274320" algn="ctr">
              <a:buClr>
                <a:srgbClr val="000000"/>
              </a:buClr>
              <a:buFont typeface="Hoefler Tex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36154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6960" y="2768400"/>
            <a:ext cx="527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417240" indent="-417240"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1" marL="834120" indent="-416880">
              <a:spcBef>
                <a:spcPts val="3600"/>
              </a:spcBef>
              <a:buSzPct val="100000"/>
              <a:buBlip>
                <a:blip r:embed="rId4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2" marL="1251360" indent="-417240">
              <a:spcBef>
                <a:spcPts val="3600"/>
              </a:spcBef>
              <a:buSzPct val="100000"/>
              <a:buBlip>
                <a:blip r:embed="rId5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3" marL="1668600" indent="-416880">
              <a:spcBef>
                <a:spcPts val="3600"/>
              </a:spcBef>
              <a:buSzPct val="100000"/>
              <a:buBlip>
                <a:blip r:embed="rId6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4" marL="2085840" indent="-417240">
              <a:spcBef>
                <a:spcPts val="3600"/>
              </a:spcBef>
              <a:buSzPct val="100000"/>
              <a:buBlip>
                <a:blip r:embed="rId7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5" marL="2085840" indent="-417240">
              <a:spcBef>
                <a:spcPts val="3600"/>
              </a:spcBef>
              <a:buSzPct val="100000"/>
              <a:buBlip>
                <a:blip r:embed="rId8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6" marL="2085840" indent="-417240">
              <a:spcBef>
                <a:spcPts val="3600"/>
              </a:spcBef>
              <a:buSzPct val="100000"/>
              <a:buBlip>
                <a:blip r:embed="rId9"/>
              </a:buBlip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36154"/>
                </a:solidFill>
                <a:latin typeface="Baskerville"/>
              </a:rPr>
              <a:t>Click to edit the title text format</a:t>
            </a: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1" marL="325800" indent="0">
              <a:spcBef>
                <a:spcPts val="36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2" marL="651240">
              <a:spcBef>
                <a:spcPts val="3600"/>
              </a:spcBef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3" marL="977400">
              <a:spcBef>
                <a:spcPts val="3600"/>
              </a:spcBef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4" marL="1302840">
              <a:spcBef>
                <a:spcPts val="3600"/>
              </a:spcBef>
              <a:buClr>
                <a:srgbClr val="4c4c4c"/>
              </a:buClr>
              <a:buFont typeface="Hoefler Text"/>
              <a:buChar char="•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5" marL="1302840">
              <a:spcBef>
                <a:spcPts val="901"/>
              </a:spcBef>
              <a:buClr>
                <a:srgbClr val="000000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lvl="6" marL="1302840">
              <a:spcBef>
                <a:spcPts val="901"/>
              </a:spcBef>
              <a:buClr>
                <a:srgbClr val="000000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4c4c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cal%20Settings/Temporary%20Internet%20Files/OLKE00/nys-evaluation-plans-guidance-memo%203_9_12.pdf" TargetMode="External"/><Relationship Id="rId3" Type="http://schemas.openxmlformats.org/officeDocument/2006/relationships/hyperlink" Target="file:///../../Local%20Settings/Temporary%20Internet%20Files/OLKE00/TED_Handbook.pdf" TargetMode="External"/><Relationship Id="rId4" Type="http://schemas.openxmlformats.org/officeDocument/2006/relationships/hyperlink" Target="file:///../../Local%20Settings/Temporary%20Internet%20Files/OLKE00/APPR_Presentation_NYSUT%203_9_12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flowers_h" descr=""/>
          <p:cNvPicPr/>
          <p:nvPr/>
        </p:nvPicPr>
        <p:blipFill>
          <a:blip r:embed="rId2"/>
          <a:srcRect l="5632" t="76" r="5632" b="-73"/>
          <a:stretch/>
        </p:blipFill>
        <p:spPr>
          <a:xfrm>
            <a:off x="2387520" y="6858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11360" y="7391160"/>
            <a:ext cx="11353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Times New Roman"/>
              </a:rPr>
              <a:t>CCSS/APPR/SLO/LMA </a:t>
            </a:r>
            <a:endParaRPr b="0" lang="en-US" sz="66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8686440"/>
            <a:ext cx="11430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A Summary</a:t>
            </a:r>
            <a:endParaRPr b="0" lang="en-US" sz="4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63300"/>
                </a:solidFill>
                <a:latin typeface="Times New Roman"/>
              </a:rPr>
              <a:t>SLO and Local Measure</a:t>
            </a: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54360" y="2514600"/>
            <a:ext cx="89913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 u="sng">
                <a:solidFill>
                  <a:srgbClr val="663300"/>
                </a:solidFill>
                <a:uFillTx/>
                <a:latin typeface="Times New Roman"/>
              </a:rPr>
              <a:t>Key concepts:</a:t>
            </a:r>
            <a:endParaRPr b="0" lang="en-US" sz="44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LO: Must be approved by District </a:t>
            </a:r>
            <a:endParaRPr b="0" lang="en-US" sz="44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cal: Negotiated with teachers</a:t>
            </a:r>
            <a:endParaRPr b="0" lang="en-US" sz="44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omparable </a:t>
            </a:r>
            <a:endParaRPr b="0" lang="en-US" sz="44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igorous</a:t>
            </a:r>
            <a:endParaRPr b="0" lang="en-US" sz="44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ligned with (national/state) standards</a:t>
            </a:r>
            <a:endParaRPr b="0" lang="en-US" sz="44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8560" y="380520"/>
            <a:ext cx="899136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 u="sng">
                <a:solidFill>
                  <a:srgbClr val="663300"/>
                </a:solidFill>
                <a:uFillTx/>
                <a:latin typeface="Times New Roman"/>
              </a:rPr>
              <a:t>Options:</a:t>
            </a: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40360" y="2514240"/>
            <a:ext cx="7238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Regional Exams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AP Exams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Final Exams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Part of Exam for SLO/Part for LMA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Portfolios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Performance task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9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Goal Setting/Skill Getting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203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Times New Roman"/>
              </a:rPr>
              <a:t>What could the summative assessments look like for the SLOs and LMAO</a:t>
            </a:r>
            <a:r>
              <a:rPr b="0" lang="en-US" sz="66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636154"/>
              </a:solidFill>
              <a:latin typeface="Baskerville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82760" y="2819520"/>
          <a:ext cx="11702880" cy="6914880"/>
        </p:xfrm>
        <a:graphic>
          <a:graphicData uri="http://schemas.openxmlformats.org/drawingml/2006/table">
            <a:tbl>
              <a:tblPr/>
              <a:tblGrid>
                <a:gridCol w="5852880"/>
                <a:gridCol w="5850000"/>
              </a:tblGrid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4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SLO                </a:t>
                      </a:r>
                      <a:endParaRPr b="0" lang="en-US" sz="40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4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Local Measure</a:t>
                      </a:r>
                      <a:endParaRPr b="0" lang="en-US" sz="40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Regional Exam 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Regional Exam (CSE/ESL)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Regional Exam: Writing/Speaking/Reading/ Listening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Regional Exam:  Reading/Listening/Writing/ Speaking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Final Exam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Performance Task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Regional/Final Exam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Growth Analysis (Skill)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Growth Analysis (Skill)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0"/>
                        </a:spcBef>
                        <a:tabLst>
                          <a:tab algn="l" pos="0"/>
                          <a:tab algn="l" pos="584280"/>
                          <a:tab algn="l" pos="1168560"/>
                          <a:tab algn="l" pos="1752480"/>
                          <a:tab algn="l" pos="2336760"/>
                          <a:tab algn="l" pos="2921040"/>
                          <a:tab algn="l" pos="3505320"/>
                          <a:tab algn="l" pos="4089240"/>
                          <a:tab algn="l" pos="4673520"/>
                          <a:tab algn="l" pos="5257800"/>
                          <a:tab algn="l" pos="5842080"/>
                          <a:tab algn="l" pos="6426360"/>
                          <a:tab algn="l" pos="7010280"/>
                          <a:tab algn="l" pos="7594560"/>
                          <a:tab algn="l" pos="8178840"/>
                          <a:tab algn="l" pos="8763120"/>
                          <a:tab algn="l" pos="9347040"/>
                          <a:tab algn="l" pos="9931320"/>
                          <a:tab algn="l" pos="10515600"/>
                        </a:tabLst>
                      </a:pPr>
                      <a:r>
                        <a:rPr b="0" lang="en-US" sz="3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Performance Task</a:t>
                      </a:r>
                      <a:endParaRPr b="0" lang="en-US" sz="3600" spc="-1" strike="noStrike">
                        <a:solidFill>
                          <a:srgbClr val="595650"/>
                        </a:solidFill>
                        <a:latin typeface="Hoefler Tex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1510920"/>
            <a:ext cx="114300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63300"/>
                </a:solidFill>
                <a:latin typeface="Times New Roman"/>
              </a:rPr>
              <a:t>What do we need to do to continue our work from here?</a:t>
            </a:r>
            <a:endParaRPr b="0" lang="en-US" sz="78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217" name=""/>
          <p:cNvSpPr/>
          <p:nvPr/>
        </p:nvSpPr>
        <p:spPr>
          <a:xfrm>
            <a:off x="863640" y="6019920"/>
            <a:ext cx="113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205b5a"/>
                </a:solidFill>
                <a:latin typeface="Times New Roman"/>
              </a:rPr>
              <a:t>We can start thinking about options that address the requirements for APPR, the standards, </a:t>
            </a:r>
            <a:br>
              <a:rPr sz="3600"/>
            </a:br>
            <a:r>
              <a:rPr b="0" lang="en-US" sz="3600" spc="-1" strike="noStrike">
                <a:solidFill>
                  <a:srgbClr val="205b5a"/>
                </a:solidFill>
                <a:latin typeface="Times New Roman"/>
              </a:rPr>
              <a:t>and the goals we have for our courses</a:t>
            </a:r>
            <a:r>
              <a:rPr b="0" lang="en-US" sz="3600" spc="-1" strike="noStrike">
                <a:solidFill>
                  <a:srgbClr val="205b5a"/>
                </a:solidFill>
                <a:latin typeface="Hoefler Text"/>
              </a:rPr>
              <a:t>.</a:t>
            </a: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-1066680"/>
          <a:ext cx="13004640" cy="1295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066680"/>
                    <a:ext cx="13004640" cy="129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3360" y="124272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Times New Roman"/>
              </a:rPr>
              <a:t>Resources for APPR/SLOs/Local Measure</a:t>
            </a:r>
            <a:endParaRPr b="0" lang="en-US" sz="72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139480" y="3744720"/>
            <a:ext cx="9936360" cy="408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82560" indent="-682560">
              <a:lnSpc>
                <a:spcPct val="100000"/>
              </a:lnSpc>
              <a:spcBef>
                <a:spcPts val="3600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NYS Evaluation Plans Guidance Memo</a:t>
            </a:r>
            <a:endParaRPr b="0" lang="en-US" sz="4300" spc="-1" strike="noStrike">
              <a:solidFill>
                <a:srgbClr val="4c4c4c"/>
              </a:solidFill>
              <a:latin typeface="Hoefler Text"/>
            </a:endParaRPr>
          </a:p>
          <a:p>
            <a:pPr marL="682560" indent="-682560">
              <a:lnSpc>
                <a:spcPct val="100000"/>
              </a:lnSpc>
              <a:spcBef>
                <a:spcPts val="3600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NYSUT  TED  Handbook </a:t>
            </a:r>
            <a:endParaRPr b="0" lang="en-US" sz="4300" spc="-1" strike="noStrike">
              <a:solidFill>
                <a:srgbClr val="4c4c4c"/>
              </a:solidFill>
              <a:latin typeface="Hoefler Text"/>
            </a:endParaRPr>
          </a:p>
          <a:p>
            <a:pPr marL="682560" indent="-682560">
              <a:lnSpc>
                <a:spcPct val="100000"/>
              </a:lnSpc>
              <a:spcBef>
                <a:spcPts val="3600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3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NYSUT  APPR  PowerPoint</a:t>
            </a:r>
            <a:endParaRPr b="0" lang="en-US" sz="43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73120" y="2743200"/>
            <a:ext cx="98298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A pessimist sees the difficulty in every opportunity; an optimist sees the opportunity in every difficulty. </a:t>
            </a:r>
            <a:endParaRPr b="0" lang="en-US" sz="4400" spc="-1" strike="noStrike">
              <a:solidFill>
                <a:srgbClr val="595650"/>
              </a:solidFill>
              <a:latin typeface="Hoefler Tex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400" spc="-1" strike="noStrike">
              <a:solidFill>
                <a:srgbClr val="595650"/>
              </a:solidFill>
              <a:latin typeface="Hoefler Tex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~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Winston Churchill</a:t>
            </a:r>
            <a:r>
              <a:rPr b="0" lang="en-US" sz="4400" spc="-1" strike="noStrike">
                <a:solidFill>
                  <a:srgbClr val="59565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flowers_v" descr=""/>
          <p:cNvPicPr/>
          <p:nvPr/>
        </p:nvPicPr>
        <p:blipFill>
          <a:blip r:embed="rId2"/>
          <a:srcRect l="3568" t="0" r="3611" b="0"/>
          <a:stretch/>
        </p:blipFill>
        <p:spPr>
          <a:xfrm>
            <a:off x="8393040" y="2935440"/>
            <a:ext cx="4292640" cy="5715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63300"/>
                </a:solidFill>
                <a:latin typeface="Times New Roman"/>
              </a:rPr>
              <a:t>APPR</a:t>
            </a:r>
            <a:r>
              <a:rPr b="0" lang="en-US" sz="7800" spc="-1" strike="noStrike">
                <a:solidFill>
                  <a:srgbClr val="663300"/>
                </a:solidFill>
                <a:latin typeface="Baskerville"/>
              </a:rPr>
              <a:t> </a:t>
            </a: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9400" y="2768760"/>
            <a:ext cx="7862760" cy="62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</a:rPr>
              <a:t>Teacher Evaluation</a:t>
            </a:r>
            <a:endParaRPr b="0" lang="en-US" sz="4800" spc="-1" strike="noStrike">
              <a:solidFill>
                <a:srgbClr val="4c4c4c"/>
              </a:solidFill>
              <a:latin typeface="Hoefler Text"/>
            </a:endParaRPr>
          </a:p>
          <a:p>
            <a:pPr lvl="1" marL="739800" indent="-225360">
              <a:lnSpc>
                <a:spcPct val="100000"/>
              </a:lnSpc>
              <a:spcBef>
                <a:spcPts val="280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60 points (observation*/goal setting)</a:t>
            </a:r>
            <a:endParaRPr b="0" lang="en-US" sz="3200" spc="-1" strike="noStrike">
              <a:solidFill>
                <a:srgbClr val="4c4c4c"/>
              </a:solidFill>
              <a:latin typeface="Hoefler Text"/>
            </a:endParaRPr>
          </a:p>
          <a:p>
            <a:pPr lvl="1" marL="739800" indent="-225360">
              <a:lnSpc>
                <a:spcPct val="100000"/>
              </a:lnSpc>
              <a:spcBef>
                <a:spcPts val="280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0 points (State Growth Measure/Student   Learning Objective [SLO] or goal setting process)</a:t>
            </a:r>
            <a:endParaRPr b="0" lang="en-US" sz="3200" spc="-1" strike="noStrike">
              <a:solidFill>
                <a:srgbClr val="4c4c4c"/>
              </a:solidFill>
              <a:latin typeface="Hoefler Text"/>
            </a:endParaRPr>
          </a:p>
          <a:p>
            <a:pPr lvl="1" marL="739800" indent="-225360">
              <a:lnSpc>
                <a:spcPct val="100000"/>
              </a:lnSpc>
              <a:spcBef>
                <a:spcPts val="2801"/>
              </a:spcBef>
              <a:buClr>
                <a:srgbClr val="663300"/>
              </a:buClr>
              <a:buSzPct val="80000"/>
              <a:buFont typeface="Wingdings" charset="2"/>
              <a:buChar char="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20 points (local assessment)      </a:t>
            </a:r>
            <a:endParaRPr b="0" lang="en-US" sz="3200" spc="-1" strike="noStrike">
              <a:solidFill>
                <a:srgbClr val="4c4c4c"/>
              </a:solidFill>
              <a:latin typeface="Hoefler Text"/>
            </a:endParaRPr>
          </a:p>
          <a:p>
            <a:pPr lvl="1" marL="739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*Observations based on New York State   Teaching Standards and rubric selected by district.</a:t>
            </a:r>
            <a:endParaRPr b="0" lang="en-US" sz="32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flowers_h" descr=""/>
          <p:cNvPicPr/>
          <p:nvPr/>
        </p:nvPicPr>
        <p:blipFill>
          <a:blip r:embed="rId2"/>
          <a:srcRect l="3650" t="1269" r="7614" b="-1266"/>
          <a:stretch/>
        </p:blipFill>
        <p:spPr>
          <a:xfrm>
            <a:off x="636480" y="473040"/>
            <a:ext cx="3732480" cy="2798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2440" y="2253960"/>
            <a:ext cx="11796480" cy="71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31800" indent="-631800">
              <a:lnSpc>
                <a:spcPct val="100000"/>
              </a:lnSpc>
              <a:spcBef>
                <a:spcPts val="3600"/>
              </a:spcBef>
              <a:buSzPct val="100000"/>
              <a:buBlip>
                <a:blip r:embed="rId3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*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Will provide the Comparable Growth Measure   (CGM) for any teacher who will not receive a CGM from the state.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*Can be used for local assessment.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*Reflect the most important learning of a course.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*Should be comparable for all teachers teaching the same course.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*Is specific and measurable.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*Based on prior student learning data.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*Aligned to standards.</a:t>
            </a:r>
            <a:endParaRPr b="0" lang="en-US" sz="40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199" name=""/>
          <p:cNvSpPr/>
          <p:nvPr/>
        </p:nvSpPr>
        <p:spPr>
          <a:xfrm>
            <a:off x="5359320" y="1523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6000" spc="-1" strike="noStrike">
                <a:solidFill>
                  <a:srgbClr val="663300"/>
                </a:solidFill>
                <a:latin typeface="Times New Roman"/>
              </a:rPr>
              <a:t>SLOs</a:t>
            </a:r>
            <a:endParaRPr b="0" lang="en-US" sz="6000" spc="-1" strike="noStrike">
              <a:solidFill>
                <a:srgbClr val="595650"/>
              </a:solidFill>
              <a:latin typeface="Hoefler Tex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23760" y="1752120"/>
            <a:ext cx="11598480" cy="769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 those classes that do not have a state assessment and are not “associated with a state assessment or a Regents,” develop/identify a district-wide assessment and set an SLO for that assessment. Ex. HS Calculus, MS Band, World Languag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In many cases one SLO will be sufficient.  However, it may be necessary to have more than one SLO. The SLO must address 50 % of a teacher’s total enrollment. For example, if a teacher has 150 students (50 students in French 1, 50 students in French 2, 50 students in French 3), she will 2 SLOs.</a:t>
            </a:r>
            <a:endParaRPr b="0" lang="en-US" sz="40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0480" y="380880"/>
            <a:ext cx="1031220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800" spc="-1" strike="noStrike">
                <a:solidFill>
                  <a:srgbClr val="663300"/>
                </a:solidFill>
                <a:latin typeface="Times New Roman"/>
              </a:rPr>
              <a:t>Who will need an SLO?</a:t>
            </a:r>
            <a:endParaRPr b="0" lang="en-US" sz="78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12320" y="3040200"/>
            <a:ext cx="11906280" cy="58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3180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     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~Identify student population served.</a:t>
            </a:r>
            <a:br>
              <a:rPr sz="3900"/>
            </a:br>
            <a:r>
              <a:rPr b="0" lang="en-US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~Identify learning content, based on standards.</a:t>
            </a:r>
            <a:br>
              <a:rPr sz="3900"/>
            </a:br>
            <a:r>
              <a:rPr b="0" lang="en-US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~Interval of time: half-year/year.</a:t>
            </a:r>
            <a:br>
              <a:rPr sz="3900"/>
            </a:br>
            <a:r>
              <a:rPr b="0" lang="en-US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~Evidence: assessments or products.</a:t>
            </a:r>
            <a:br>
              <a:rPr sz="3900"/>
            </a:br>
            <a:r>
              <a:rPr b="0" lang="en-US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~Baseline: starting point for students.</a:t>
            </a:r>
            <a:br>
              <a:rPr sz="3900"/>
            </a:br>
            <a:r>
              <a:rPr b="0" lang="en-US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~Target: Expected outcomes by end of instructional period.</a:t>
            </a:r>
            <a:br>
              <a:rPr sz="3900"/>
            </a:br>
            <a:r>
              <a:rPr b="0" lang="en-US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~HEDI Criteria: ranges of student performance and range of points related to ratings.</a:t>
            </a:r>
            <a:br>
              <a:rPr sz="3900"/>
            </a:br>
            <a:r>
              <a:rPr b="0" lang="en-US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~Rationale: Why is this learning important?</a:t>
            </a:r>
            <a:endParaRPr b="0" lang="en-US" sz="3900" spc="-1" strike="noStrike">
              <a:solidFill>
                <a:srgbClr val="205b5a"/>
              </a:solidFill>
              <a:latin typeface="Baskervil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20840" y="1227240"/>
            <a:ext cx="114300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What comprises an SLO?</a:t>
            </a:r>
            <a:endParaRPr b="0" lang="en-US" sz="60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800" spc="-1" strike="noStrike">
              <a:solidFill>
                <a:srgbClr val="636154"/>
              </a:solidFill>
              <a:latin typeface="Baskerville"/>
            </a:endParaRPr>
          </a:p>
        </p:txBody>
      </p:sp>
      <p:pic>
        <p:nvPicPr>
          <p:cNvPr id="205" name="image" descr=""/>
          <p:cNvPicPr/>
          <p:nvPr/>
        </p:nvPicPr>
        <p:blipFill>
          <a:blip r:embed="rId2"/>
          <a:stretch/>
        </p:blipFill>
        <p:spPr>
          <a:xfrm>
            <a:off x="-474840" y="404640"/>
            <a:ext cx="13684320" cy="913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663300"/>
                </a:solidFill>
                <a:latin typeface="Times New Roman"/>
              </a:rPr>
              <a:t>APPR/Local Assessments</a:t>
            </a:r>
            <a:endParaRPr b="0" lang="en-US" sz="80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880" y="3504960"/>
            <a:ext cx="11702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20%  Locally Developed Measure of Achievement</a:t>
            </a:r>
            <a:endParaRPr b="0" lang="en-US" sz="44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18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We can use the SLO as the local measure of achievement, but it must be used in a different way (i.e. CSE students, ESL, etc.).</a:t>
            </a:r>
            <a:endParaRPr b="0" lang="en-US" sz="44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663300"/>
                </a:solidFill>
                <a:latin typeface="Times New Roman"/>
              </a:rPr>
              <a:t>APPR/Local Assessments</a:t>
            </a:r>
            <a:endParaRPr b="0" lang="en-US" sz="8000" spc="-1" strike="noStrike">
              <a:solidFill>
                <a:srgbClr val="636154"/>
              </a:solidFill>
              <a:latin typeface="Baskervil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2760" y="3048120"/>
            <a:ext cx="11353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What should our students know/be able to do for each grade level/course we teach?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hould we use a performance-based task or a traditional assessment?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Assessments and scoring bands for the Local Measure of Assessment are negotiated with teachers.</a:t>
            </a:r>
            <a:endParaRPr b="0" lang="en-US" sz="3600" spc="-1" strike="noStrike">
              <a:solidFill>
                <a:srgbClr val="4c4c4c"/>
              </a:solidFill>
              <a:latin typeface="Hoefl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aine</cp:lastModifiedBy>
  <dcterms:modified xsi:type="dcterms:W3CDTF">2012-04-30T14:21:26Z</dcterms:modified>
  <cp:revision>39</cp:revision>
  <dc:subject/>
  <dc:title>APPR/SLO Presentation FLACS </dc:title>
</cp:coreProperties>
</file>